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236A6-4A8E-4C28-B6A1-51F93B6F2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136D7-0FC8-4BC1-992A-EB0F50B9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C6B9-8D33-4987-ACC6-153A15E4F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1B199-BFCA-42FB-B4E4-6E6F396D0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02E9B-031A-4530-AED7-994285042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FBF7B-6156-4B9F-BA1A-5971C02E7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5D85-5C82-4DCB-B60E-601A590E1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7CF64-5E7B-41AA-9CE8-B10E25661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96CC3-65F8-41FE-B4CB-660DE05F6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CBC9B-5ABF-417E-B8DF-DB19375A0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B9F59-724A-48F0-8879-ED8935952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EA04-D79E-42B0-896A-4DFA1140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5C1B1-435C-4234-8A28-BC7ED419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F7CBE-1B09-4EB0-96A5-2E91A700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4B039-9431-4A16-93E5-98F62D969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FD6AE-B306-4E4C-B328-374157575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9D41F-6E24-40C1-8337-59F457014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A6240-7257-4375-9778-DDB5CF308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04571-5207-4BF5-800F-0903A2982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CDE85-3931-4FF3-AA7E-70A538E72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26E7F-4740-468D-B86F-27B8EB233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7B251-45DC-4774-A3C8-0237F5526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464A-F803-4357-8D55-F88E7302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1FC17-04BB-4CB3-9DC2-57C30520C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1C848-9527-43A0-B985-65D39444C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04646-E7E2-43B2-A092-D7EBAA0E3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41688-6E23-405E-A215-9266CA8DC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D6AAA-44EA-4673-9B75-F6D60C5E5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D9BE4-B6E4-45D1-977A-49724025C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97D45-376D-4B3C-B6C1-F69D6EB48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6F977-C831-41E8-8406-B01838DAC9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8421F-41D5-412B-8125-CDE428F68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27FE0F-2476-4F1C-8BA5-58891B6D4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0ED7-4B38-4415-83C8-D7B318FD2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5B084-6BC5-4585-91D1-01473265A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0A835-B806-487F-9583-2FD6D1962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17537-CC55-4671-B687-1F9EC722F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433B6-F2A6-4824-BDD9-6E745429A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38E29-92F6-402D-8AF4-4FA690423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FF488-76C6-430B-8947-A1DBB42AB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6ED7B-EBDB-4D1E-BDD3-834CBAAE0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722695-5905-4BC3-904B-B2AB2F4DD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7F4D86-FE43-4E9B-AC42-06C48C5D0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5F67-4A29-40A8-A85C-34B26260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0046C-86C6-48B2-8D46-93623FC4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117E-2A47-46AD-846E-56386973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89B8-7BA4-4555-B5A6-F5F9A0BA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4E03-238C-4DDD-9814-FD0E9DFD2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618BB-F6C8-4640-8D71-CF48A0CE5670}"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BE24E-9BE2-4BC2-BEE2-7BDE5486A966}"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404AF-A889-4AC5-8F8D-A04E21FA6419}"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4C0B5-D9BC-48D4-B505-129B239557D2}"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6</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199" name=""/>
          <p:cNvSpPr txBox="1"/>
          <p:nvPr/>
        </p:nvSpPr>
        <p:spPr>
          <a:xfrm>
            <a:off x="0" y="1158480"/>
            <a:ext cx="9144000" cy="57294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Régime des maladies professionnelles :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onstantia"/>
              </a:rPr>
              <a:t>Définition</a:t>
            </a:r>
            <a:r>
              <a:rPr b="0" lang="fr-FR" sz="2200" spc="-1" strike="noStrike">
                <a:solidFill>
                  <a:srgbClr val="000000"/>
                </a:solidFill>
                <a:latin typeface="Constantia"/>
              </a:rPr>
              <a:t> :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a maladie professionnelle est toute maladie provenant d’une cause extérieure au travailleur et contractée à l’occasion de l’exécution du travail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Sont considérées comme maladies professionnelles : </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manifestations morbides</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infections microbiennes</a:t>
            </a:r>
            <a:endParaRPr b="0" lang="en-US" sz="2200" spc="-1" strike="noStrike">
              <a:solidFill>
                <a:srgbClr val="000000"/>
              </a:solidFill>
              <a:latin typeface="Constantia"/>
            </a:endParaRPr>
          </a:p>
          <a:p>
            <a:pPr algn="just">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affections professionnelles </a:t>
            </a:r>
            <a:endParaRPr b="0" lang="en-US" sz="22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manifestations morbides : sont des intoxications aigues ou chroniques causées par la manipulation ou l’emploi d’agents nocifs comme le saturnisme professionnel (plomb et ses composés) ou la pneumoconiose professionnelle causé par l’inhalation de poussières ou de fumées industrielles</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1" name=""/>
          <p:cNvSpPr txBox="1"/>
          <p:nvPr/>
        </p:nvSpPr>
        <p:spPr>
          <a:xfrm>
            <a:off x="0" y="1387080"/>
            <a:ext cx="9144000" cy="5607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infections microbiennes (tuberculose cutanée et autres infection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affections professionnelles sont celles entrainées par l’exécution des travaux énumérés par l’exécution des travaux énumérés par la liste des maladies professionnelles, comme le déficit audiométrique causé par les travaux exposant aux bruit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rocédure :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le salarié est tenu de faire la déclaration à l’autorité municipale dans les 15 j qui suivent la suspension du travail l’ayant exposé aux risques de la maladie.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déclaration doit être accompagnée des certificats médicaux.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doit aussi déclarer l’état de guérison dans un délai de 48h.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3" name=""/>
          <p:cNvSpPr txBox="1"/>
          <p:nvPr/>
        </p:nvSpPr>
        <p:spPr>
          <a:xfrm>
            <a:off x="0" y="1387440"/>
            <a:ext cx="9144000" cy="54705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bénéficie de la même rente dans le cas où il est atteint d’une incapacité́ totale permanente.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n cas de décès, le conjoint, descendants et enfants auront les mêmes droit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mployeur demeure responsable de la réparation même après que le salarié `ait changé d’entreprise.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0972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5" name=""/>
          <p:cNvSpPr txBox="1"/>
          <p:nvPr/>
        </p:nvSpPr>
        <p:spPr>
          <a:xfrm>
            <a:off x="0" y="1250640"/>
            <a:ext cx="9144000" cy="56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Syndicats professionnels </a:t>
            </a: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et </a:t>
            </a:r>
            <a:endParaRPr b="0" lang="en-US" sz="4200" spc="-1" strike="noStrike">
              <a:solidFill>
                <a:srgbClr val="000000"/>
              </a:solidFill>
              <a:latin typeface="Constanti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onstantia"/>
              </a:rPr>
              <a:t>Représentants de personnel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52240"/>
            <a:ext cx="8229600" cy="83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7" name=""/>
          <p:cNvSpPr txBox="1"/>
          <p:nvPr/>
        </p:nvSpPr>
        <p:spPr>
          <a:xfrm>
            <a:off x="0" y="1387440"/>
            <a:ext cx="9144000" cy="5470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principe de </a:t>
            </a:r>
            <a:r>
              <a:rPr b="1" lang="fr-FR" sz="2000" spc="-1" strike="noStrike" u="sng">
                <a:solidFill>
                  <a:srgbClr val="3366ff"/>
                </a:solidFill>
                <a:uFillTx/>
                <a:latin typeface="Constantia"/>
              </a:rPr>
              <a:t>la liberté syndicale </a:t>
            </a:r>
            <a:r>
              <a:rPr b="0" lang="fr-FR" sz="2000" spc="-1" strike="noStrike">
                <a:solidFill>
                  <a:srgbClr val="000000"/>
                </a:solidFill>
                <a:latin typeface="Constantia"/>
              </a:rPr>
              <a:t>est consacré par la DUDH.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u Maroc c’est un principe constitutionne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Syndicats professionnels </a:t>
            </a:r>
            <a:r>
              <a:rPr b="0" lang="fr-FR"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nstantia"/>
              </a:rPr>
              <a:t>Définition</a:t>
            </a:r>
            <a:r>
              <a:rPr b="0" lang="fr-FR" sz="2000" spc="-1" strike="noStrike">
                <a:solidFill>
                  <a:srgbClr val="000000"/>
                </a:solidFill>
                <a:latin typeface="Constantia"/>
              </a:rPr>
              <a:t> :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s’agit de tout groupement professionnel qui a pour obje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1- la défense </a:t>
            </a:r>
            <a:r>
              <a:rPr b="0" lang="fr-FR" sz="2000" spc="-1" strike="noStrike">
                <a:solidFill>
                  <a:srgbClr val="ff0000"/>
                </a:solidFill>
                <a:latin typeface="Constantia"/>
              </a:rPr>
              <a:t>des intérêts </a:t>
            </a:r>
            <a:r>
              <a:rPr b="0" lang="fr-FR" sz="2000" spc="-1" strike="noStrike">
                <a:solidFill>
                  <a:srgbClr val="000000"/>
                </a:solidFill>
                <a:latin typeface="Constantia"/>
              </a:rPr>
              <a:t>économiques, industriels, commerciaux et agricoles de leurs adhérents. Le syndica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mène d’abord une action auprès de l’employ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en cas d’échec auprès de l’inspecteur du travail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 auprès de la justice en cas de non respect de la durée maximale du travail journalier, du SMIG, du repos hebdomadaire, d’un licenciement jugé abusif, d’un licencient collectif</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2-  l’amélioration du niveau d’instruction de leurs adhérents</a:t>
            </a:r>
            <a:endParaRPr b="0" lang="en-US" sz="20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3- l’élaboration de la politique nationale dans les domaines économiques et sociaux</a:t>
            </a:r>
            <a:r>
              <a:rPr b="0" lang="fr-FR" sz="2400" spc="-1" strike="noStrike">
                <a:solidFill>
                  <a:srgbClr val="000000"/>
                </a:solidFill>
                <a:latin typeface="Constantia"/>
              </a:rPr>
              <a:t>.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09" name=""/>
          <p:cNvSpPr txBox="1"/>
          <p:nvPr/>
        </p:nvSpPr>
        <p:spPr>
          <a:xfrm>
            <a:off x="0" y="1387440"/>
            <a:ext cx="9144000" cy="5470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onstantia"/>
              </a:rPr>
              <a:t>Formation</a:t>
            </a:r>
            <a:r>
              <a:rPr b="0" lang="fr-FR" sz="2200" spc="-1" strike="noStrike">
                <a:solidFill>
                  <a:srgbClr val="000000"/>
                </a:solidFill>
                <a:latin typeface="Constantia"/>
              </a:rPr>
              <a:t> :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syndicat professionnel peut être constitué librement par des personnes exerçant la même profession ou le même métier, des professions ou des métiers similaires ou connexes.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syndicat professionnel a </a:t>
            </a:r>
            <a:r>
              <a:rPr b="0" lang="fr-FR" sz="2200" spc="-1" strike="noStrike">
                <a:solidFill>
                  <a:srgbClr val="ff0000"/>
                </a:solidFill>
                <a:latin typeface="Constantia"/>
              </a:rPr>
              <a:t>la personnalité morale</a:t>
            </a:r>
            <a:r>
              <a:rPr b="0" lang="fr-FR" sz="2200" spc="-1" strike="noStrike">
                <a:solidFill>
                  <a:srgbClr val="000000"/>
                </a:solidFill>
                <a:latin typeface="Constantia"/>
              </a:rPr>
              <a:t>. Par conséquent il a le droit d’ester en justice, d’acquérir ou posséder  et de passer toutes sortes de conventions et de contrats pour assurer son fonctionnement.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Son patrimoine est constitué des cotisations collectés auprès des adhérents et des ressources et revenus des dons et legs. </a:t>
            </a:r>
            <a:endParaRPr b="0" lang="en-US" sz="2200" spc="-1" strike="noStrike">
              <a:solidFill>
                <a:srgbClr val="000000"/>
              </a:solidFill>
              <a:latin typeface="Constanti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1" name=""/>
          <p:cNvSpPr txBox="1"/>
          <p:nvPr/>
        </p:nvSpPr>
        <p:spPr>
          <a:xfrm>
            <a:off x="0" y="1206000"/>
            <a:ext cx="9144000" cy="5651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onstantia"/>
              </a:rPr>
              <a:t>Attributions</a:t>
            </a:r>
            <a:r>
              <a:rPr b="0" lang="fr-FR" sz="2000" spc="-1" strike="noStrike">
                <a:solidFill>
                  <a:srgbClr val="000000"/>
                </a:solidFill>
                <a:latin typeface="Constantia"/>
              </a:rPr>
              <a:t> :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1- Licenciement collectif </a:t>
            </a:r>
            <a:r>
              <a:rPr b="0" lang="fr-FR" sz="2000" spc="-1" strike="noStrike">
                <a:solidFill>
                  <a:srgbClr val="000000"/>
                </a:solidFill>
                <a:latin typeface="Constantia"/>
              </a:rPr>
              <a:t>: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Suppose l’avis de la commission provinciale composée des représentants des organisations professionnelles des employeurs et des organisations syndicales des salarié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2- Le règlement intéri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modèle de RI est fixé par l’autorité gouvernementale chargée du travail après consultation des organisations syndicales des salariés les plus représentative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3- Repos hebdomadaire et Repos compensateur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ermettre de donner le repos hebdomadaire par roulement aux établissements qui en font la demande suppose un avis des organisations syndicales des salariés. </a:t>
            </a: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Il en est de même du repos compensateur. </a:t>
            </a:r>
            <a:endParaRPr b="0" lang="en-US" sz="2000" spc="-1" strike="noStrike">
              <a:solidFill>
                <a:srgbClr val="000000"/>
              </a:solidFill>
              <a:latin typeface="Constantia"/>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Syndicats professionnels et Représentants de personnel </a:t>
            </a:r>
            <a:endParaRPr b="0" lang="en-US" sz="3000" spc="-1" strike="noStrike">
              <a:solidFill>
                <a:srgbClr val="04617b"/>
              </a:solidFill>
              <a:latin typeface="Calibri"/>
            </a:endParaRPr>
          </a:p>
        </p:txBody>
      </p:sp>
      <p:sp>
        <p:nvSpPr>
          <p:cNvPr id="213" name=""/>
          <p:cNvSpPr txBox="1"/>
          <p:nvPr/>
        </p:nvSpPr>
        <p:spPr>
          <a:xfrm>
            <a:off x="0" y="1206000"/>
            <a:ext cx="9144000" cy="56516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Autres dispositions :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MIG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gé annuel payé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pos de la même profession </a:t>
            </a:r>
            <a:endParaRPr b="0" lang="en-US" sz="2000" spc="-1" strike="noStrike">
              <a:solidFill>
                <a:srgbClr val="000000"/>
              </a:solidFill>
              <a:latin typeface="Constantia"/>
            </a:endParaRPr>
          </a:p>
          <a:p>
            <a:pPr algn="just">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vail de nuit des femmes </a:t>
            </a:r>
            <a:endParaRPr b="0" lang="en-US" sz="2000" spc="-1" strike="noStrike">
              <a:solidFill>
                <a:srgbClr val="000000"/>
              </a:solidFill>
              <a:latin typeface="Constantia"/>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18T20:55:38Z</dcterms:modified>
  <cp:revision>178</cp:revision>
  <dc:subject/>
  <dc:title>Définition </dc:title>
</cp:coreProperties>
</file>